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317-A598-41D8-B9EB-D74BFAA6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9FE-3859-45B2-91EB-EA92DF8E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547-D179-4A69-8069-AD9EFE5A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D0D-F02C-4F26-91EB-FE366A27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3D2-6CC8-45D1-A654-83C4D84A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6A5-7510-4C45-A6E6-9AF60E85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6E2-D24E-455B-AA48-569FB411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F42-3127-4694-91B2-F15001BA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925-956D-40F2-88C9-DE84766D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D57-891D-45AE-BE77-31524F87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395-C83E-45B3-811D-C69C15F2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B7D-888D-4942-B948-06CC8402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F7A9-2ABC-4CF5-B52F-C2CA98EE8A53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latinum TTM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/05/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CM reques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is one of 10 core projec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DS 06.07 planned (according SWM DS is for retail version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S 07.07 possible for operators acc. SWM (as Koala is here lead, if no Koala lead then 08.07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CM reque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DS 05.07 for operator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most critical featur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SI voice recogniti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sibility investigation started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some features identified as risk already (e.g. voice control inside navigation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GPS/A-GP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irst implementation of new HW and SW (RFR6275 not working on EVB so far, no SW implementation available today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TT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Critical line is SW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Investigation was done how to come to an earlier DS for operator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2348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SWM: Scenario Platinum DS in 04/2007 (= 1st operator approval in 06/2007!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1) Immediate start with Platinum specific features not possible due to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Voice Control and A-GPS solution still not clarified nor system concept defined, nor ISVs selected </a:t>
            </a: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no imediate start possible as required for early IOTs and DS in 04/2007 = high risk and potential delay of D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Resources for Voice Control and A-GPS (Munich experts) involved in Kestrel and DSP handover from AAL during June 20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High risk for DS in 04/20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Koala had to get a timeout of 2 months leading to DS in 06/20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2) Risk reduction (especially for IOT) possible if fully A-GPS enabled HW is available early (Dec 200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3) Overall SW load situation very similar as with Koala due to identical operator requirements of Koala and Platinum (still a req. reduction needed due to overloa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4) Koala touch screen and landscape application mode already very well prepared for immediate sta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5) Biggest challenge for whole platform is huge operator requirements (many big changes) and so expected long approval cycles with operator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DS Retail in 04/2007 leads to a first operator approval in 06/2007 (Koala or Platinum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2T06:30:28Z</dcterms:modified>
  <cp:revision>141</cp:revision>
  <dc:subject/>
  <dc:title>PowerPoint 簡報</dc:title>
</cp:coreProperties>
</file>